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D64-948F-480B-B855-5CDA698C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C21-0F6D-4708-9945-A8E38BEA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040-05AE-4848-A50A-A3330B9B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FE6-1239-4550-9D2D-24D54ABE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8A0-97DA-4A44-AC6E-20B5AB4E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C62-B6B7-46BF-9385-8FE2DC36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452-2B13-4208-88F6-A8B3D79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146-0EFD-411F-9FA5-C6DF837E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C0-DA3E-4961-AFA7-5633A174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ACB-F418-47A7-B6FA-C8995A1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2DA-A690-4321-A399-C35C4FF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168-28AB-49FF-958E-B89F4CF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91D-9142-47E3-B818-8E2927690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David  (2 Sam 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– 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 –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 – rebuilt walls  (52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ubbabel – built temple (not like Solomon’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00 year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o-Persians still i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 (Gree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abe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Roman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34 – 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3-08-09T21:32:15Z</dcterms:modified>
  <cp:revision>7</cp:revision>
  <dc:subject/>
  <dc:title>1 – Before the Flood</dc:title>
</cp:coreProperties>
</file>